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wmf" ContentType="image/x-wmf"/>
  <Override PartName="/ppt/media/oeo.wav" ContentType="audio/x-wav"/>
  <Override PartName="/ppt/media/image1.gif" ContentType="image/gif"/>
  <Override PartName="/ppt/media/explode.wav" ContentType="audio/x-wav"/>
  <Override PartName="/ppt/media/camera.wav" ContentType="audio/x-wav"/>
  <Override PartName="/ppt/media/image7.jpeg" ContentType="image/jpeg"/>
  <Override PartName="/ppt/media/image2.png" ContentType="image/png"/>
  <Override PartName="/ppt/media/image3.jpeg" ContentType="image/jpeg"/>
  <Override PartName="/ppt/media/deathstardoor.wav" ContentType="audio/x-wav"/>
  <Override PartName="/ppt/media/image4.gif" ContentType="image/gif"/>
  <Override PartName="/ppt/media/chimes.wav" ContentType="audio/x-wav"/>
  <Override PartName="/ppt/media/beamup2.wav" ContentType="audio/x-wav"/>
  <Override PartName="/ppt/media/image8.png" ContentType="image/pn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0BF-0774-46D5-956B-892E74B1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AD0-3A10-4204-BBF4-E55ECA8D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519-076C-4E84-AA70-23D0DC68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B5E-72A7-4F5C-BD7F-CCE8EAD5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E1CA-34D4-409F-8210-8E56928D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9E1A-79C6-41E1-9E52-746DCC9D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8E7C-1EEC-4FCF-96A8-DA3F7D87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E481-C5FF-47A4-A960-E094ACE7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9CA5-5C6D-4CC4-8641-04EB6044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84B8-2B9B-4750-870B-2891B10C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3A89-FE3A-41B0-86A1-30843659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8AF-BAD0-4B89-A90C-8D616997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5C8B-71E4-4EAB-86E6-CCC01423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1D17-32BB-43B4-B6D5-B95D95FF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081F-6728-49B3-A483-7CCF440A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0C32-A310-44F8-A2BC-3F702840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D663-C74A-4DF4-996B-6DE5D4BF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A5C5-936B-420C-A4E2-669C8D0F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E017-2155-452E-AD74-3FBA2CE5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2C34-2ABB-4B44-9E56-AA084025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0EC7-E218-4725-8799-E93836A5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C81-74FF-4900-8710-6690D7F8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3682-585B-4754-8ACB-8C94595A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DD0-33BA-4A2B-AF57-BE1A3D2D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a4c2"/>
            </a:gs>
            <a:gs pos="50000">
              <a:srgbClr val="ffffff"/>
            </a:gs>
            <a:gs pos="100000">
              <a:srgbClr val="a4a4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68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a5c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807F-BAB3-437D-86E2-C1D0B662AA10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a4c2"/>
            </a:gs>
            <a:gs pos="50000">
              <a:srgbClr val="ffffff"/>
            </a:gs>
            <a:gs pos="100000">
              <a:srgbClr val="a4a4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66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6699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6699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6699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68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a5c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5BFD-DA07-4569-8B69-49C6B6EDC9E9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audio" Target="../media/beamup2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oeo.wav"/><Relationship Id="rId3" Type="http://schemas.openxmlformats.org/officeDocument/2006/relationships/audio" Target="../media/oeo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eathstardoo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audio" Target="../media/camera.wav"/><Relationship Id="rId4" Type="http://schemas.openxmlformats.org/officeDocument/2006/relationships/audio" Target="../media/deathstardoor.wav"/><Relationship Id="rId5" Type="http://schemas.openxmlformats.org/officeDocument/2006/relationships/audio" Target="../media/deathstardoo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40"/>
                </a:solidFill>
                <a:latin typeface="Times New Roman"/>
              </a:rPr>
              <a:t>Work, Energy </a:t>
            </a:r>
            <a:br>
              <a:rPr sz="7200"/>
            </a:br>
            <a:r>
              <a:rPr b="0" lang="en-US" sz="7200" spc="-1" strike="noStrike">
                <a:solidFill>
                  <a:srgbClr val="000040"/>
                </a:solidFill>
                <a:latin typeface="Times New Roman"/>
              </a:rPr>
              <a:t>and</a:t>
            </a:r>
            <a:br>
              <a:rPr sz="7200"/>
            </a:br>
            <a:r>
              <a:rPr b="0" lang="en-US" sz="7200" spc="-1" strike="noStrike">
                <a:solidFill>
                  <a:srgbClr val="000040"/>
                </a:solidFill>
                <a:latin typeface="Times New Roman"/>
              </a:rPr>
              <a:t>Power</a:t>
            </a:r>
            <a:endParaRPr b="0" lang="en-US" sz="7200" spc="-1" strike="noStrike">
              <a:solidFill>
                <a:srgbClr val="000040"/>
              </a:solidFill>
              <a:latin typeface="Times New Roman"/>
            </a:endParaRPr>
          </a:p>
        </p:txBody>
      </p:sp>
      <p:pic>
        <p:nvPicPr>
          <p:cNvPr id="125" name="Picture 4" descr="anihomer"/>
          <p:cNvPicPr/>
          <p:nvPr/>
        </p:nvPicPr>
        <p:blipFill>
          <a:blip r:embed="rId1"/>
          <a:stretch/>
        </p:blipFill>
        <p:spPr>
          <a:xfrm>
            <a:off x="7543800" y="5635800"/>
            <a:ext cx="136044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40"/>
                </a:solidFill>
                <a:latin typeface="Times New Roman"/>
              </a:rPr>
              <a:t>Energy has many forms</a:t>
            </a:r>
            <a:endParaRPr b="0" lang="en-US" sz="6000" spc="-1" strike="noStrike">
              <a:solidFill>
                <a:srgbClr val="000040"/>
              </a:solidFill>
              <a:latin typeface="Times New Roman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0" y="1600200"/>
          <a:ext cx="9156600" cy="28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56600" cy="28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5"/>
          <p:cNvSpPr/>
          <p:nvPr/>
        </p:nvSpPr>
        <p:spPr>
          <a:xfrm>
            <a:off x="457200" y="50292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Machines change energy  from one form to another.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amu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Name the machine or transducer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2514600" y="1447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38280" y="59436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4876920" y="1447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2286000" y="46483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2362320" y="30481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429000" y="1219320"/>
            <a:ext cx="1371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3429000" y="2666880"/>
            <a:ext cx="13716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3429000" y="4191120"/>
            <a:ext cx="1371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3429000" y="5638680"/>
            <a:ext cx="13716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133720" y="838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4800600" y="838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Out pu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0" name="AutoShape 19"/>
          <p:cNvSpPr/>
          <p:nvPr/>
        </p:nvSpPr>
        <p:spPr>
          <a:xfrm>
            <a:off x="4952880" y="304812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1" name="AutoShape 20"/>
          <p:cNvSpPr/>
          <p:nvPr/>
        </p:nvSpPr>
        <p:spPr>
          <a:xfrm>
            <a:off x="4952880" y="45720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2" name="AutoShape 21"/>
          <p:cNvSpPr/>
          <p:nvPr/>
        </p:nvSpPr>
        <p:spPr>
          <a:xfrm>
            <a:off x="4876920" y="6019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6094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6019920" y="2971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6095880" y="4495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533520" y="4572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Sound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6019920" y="6019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Sound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609480" y="5943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5867280" y="1371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Name the machine or transducer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2514600" y="1447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2438280" y="59436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4876920" y="1447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2286000" y="46483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2362320" y="30481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429000" y="1219320"/>
            <a:ext cx="1371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3429000" y="2666880"/>
            <a:ext cx="13716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429000" y="4191120"/>
            <a:ext cx="1371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3429000" y="5638680"/>
            <a:ext cx="13716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133720" y="838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4800600" y="838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586728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Heat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3" name="AutoShape 16"/>
          <p:cNvSpPr/>
          <p:nvPr/>
        </p:nvSpPr>
        <p:spPr>
          <a:xfrm>
            <a:off x="4952880" y="304812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4952880" y="45720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5" name="AutoShape 18"/>
          <p:cNvSpPr/>
          <p:nvPr/>
        </p:nvSpPr>
        <p:spPr>
          <a:xfrm>
            <a:off x="4876920" y="6019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6094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6019920" y="29718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Kinetic Energ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6095880" y="4495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533520" y="45720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Kinetic Energy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5943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Kinetic Energ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609480" y="5943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380880" y="1371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Name the machine or transducer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2514600" y="1447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2438280" y="59436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4876920" y="1447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286000" y="46483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2362320" y="30481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429000" y="1219320"/>
            <a:ext cx="1371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429000" y="2666880"/>
            <a:ext cx="13716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429000" y="4191120"/>
            <a:ext cx="1371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429000" y="5638680"/>
            <a:ext cx="13716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2133720" y="838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4800600" y="838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Out pu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380880" y="2895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hemical energ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6095880" y="3048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7" name="AutoShape 16"/>
          <p:cNvSpPr/>
          <p:nvPr/>
        </p:nvSpPr>
        <p:spPr>
          <a:xfrm>
            <a:off x="4952880" y="304812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4952880" y="45720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4876920" y="6019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380880" y="44956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Unstable Nuclei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6095880" y="43434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Light &amp; Heat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2" name="Text Box 23"/>
          <p:cNvSpPr/>
          <p:nvPr/>
        </p:nvSpPr>
        <p:spPr>
          <a:xfrm>
            <a:off x="6019920" y="6019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Sound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3" name="Text Box 24"/>
          <p:cNvSpPr/>
          <p:nvPr/>
        </p:nvSpPr>
        <p:spPr>
          <a:xfrm>
            <a:off x="609480" y="5943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4" name="Text Box 25"/>
          <p:cNvSpPr/>
          <p:nvPr/>
        </p:nvSpPr>
        <p:spPr>
          <a:xfrm>
            <a:off x="457200" y="12952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hemical energ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5943600" y="13716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Light &amp; Heat &amp; KE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Name the machine or transducer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2514600" y="1447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2438280" y="59436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4876920" y="1447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2286000" y="46483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2362320" y="30481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3429000" y="1219320"/>
            <a:ext cx="1371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3429000" y="2666880"/>
            <a:ext cx="13716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3429000" y="4191120"/>
            <a:ext cx="1371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429000" y="5638680"/>
            <a:ext cx="13716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2133720" y="838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4800600" y="838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Out pu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808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6095880" y="28195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Gravitational PE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0" name="AutoShape 16"/>
          <p:cNvSpPr/>
          <p:nvPr/>
        </p:nvSpPr>
        <p:spPr>
          <a:xfrm>
            <a:off x="4952880" y="304812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1" name="AutoShape 17"/>
          <p:cNvSpPr/>
          <p:nvPr/>
        </p:nvSpPr>
        <p:spPr>
          <a:xfrm>
            <a:off x="4952880" y="45720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2" name="AutoShape 18"/>
          <p:cNvSpPr/>
          <p:nvPr/>
        </p:nvSpPr>
        <p:spPr>
          <a:xfrm>
            <a:off x="4876920" y="6019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0033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380880" y="44956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hemical Energy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6095880" y="43434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Light &amp; Heat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6019920" y="6019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Sound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60948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7" name="Text Box 24"/>
          <p:cNvSpPr/>
          <p:nvPr/>
        </p:nvSpPr>
        <p:spPr>
          <a:xfrm>
            <a:off x="5943600" y="1371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Magnetism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8" name="Text Box 25"/>
          <p:cNvSpPr/>
          <p:nvPr/>
        </p:nvSpPr>
        <p:spPr>
          <a:xfrm>
            <a:off x="1066680" y="5943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KE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40"/>
                </a:solidFill>
                <a:latin typeface="Times New Roman"/>
              </a:rPr>
              <a:t>Potential and Kinetic Energy</a:t>
            </a:r>
            <a:endParaRPr b="0" lang="en-US" sz="48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Times New Roman"/>
              </a:rPr>
              <a:t>In all these types of energies, energy can exist as either Potential Energy (_______), Kinetic Energy (_________), or both.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40"/>
                </a:solidFill>
                <a:latin typeface="Times New Roman"/>
              </a:rPr>
              <a:t>Potential Energy (PE)</a:t>
            </a:r>
            <a:endParaRPr b="0" lang="en-US" sz="5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Times New Roman"/>
              </a:rPr>
              <a:t>Can be thought of as “stored” energy.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Times New Roman"/>
              </a:rPr>
              <a:t>It is the energy possessed by an object due to it’s position or condition.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40"/>
                </a:solidFill>
                <a:latin typeface="Times New Roman"/>
              </a:rPr>
              <a:t>Gravitational Potential Energy</a:t>
            </a:r>
            <a:endParaRPr b="0" lang="en-US" sz="5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The potential energy “stored energy” in an object due to it’s height off the ground.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Work was done against the force of gravity (weight), through a distance (height) to lift an object.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The work done (W) is equivalent to the Gravitational Potential Energy (GPE) acquired by the object.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40"/>
                </a:solidFill>
                <a:latin typeface="Times New Roman"/>
              </a:rPr>
              <a:t>Gravitational Potential Energy</a:t>
            </a:r>
            <a:endParaRPr b="0" lang="en-US" sz="5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W = F</a:t>
            </a:r>
            <a:r>
              <a:rPr b="1" lang="en-US" sz="44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W = 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ΔP.E = 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F</a:t>
            </a:r>
            <a:r>
              <a:rPr b="1" lang="en-US" sz="44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ΔPE = 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F</a:t>
            </a:r>
            <a:r>
              <a:rPr b="1" lang="en-US" sz="44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PE</a:t>
            </a:r>
            <a:r>
              <a:rPr b="0" lang="en-US" sz="6000" spc="-1" strike="noStrike" baseline="-25000">
                <a:solidFill>
                  <a:srgbClr val="ff0066"/>
                </a:solidFill>
                <a:latin typeface="Times New Roman"/>
              </a:rPr>
              <a:t>G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 = weight </a:t>
            </a:r>
            <a:r>
              <a:rPr b="1" lang="en-US" sz="4400" spc="-1" strike="noStrike" baseline="30000">
                <a:solidFill>
                  <a:srgbClr val="666699"/>
                </a:solidFill>
                <a:latin typeface="Times New Roman"/>
              </a:rPr>
              <a:t>. </a:t>
            </a:r>
            <a:r>
              <a:rPr b="1" lang="en-US" sz="4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Δ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heigh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PE</a:t>
            </a:r>
            <a:r>
              <a:rPr b="0" lang="en-US" sz="6000" spc="-1" strike="noStrike" baseline="-25000">
                <a:solidFill>
                  <a:srgbClr val="ff0066"/>
                </a:solidFill>
                <a:latin typeface="Times New Roman"/>
              </a:rPr>
              <a:t>G</a:t>
            </a: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 = m </a:t>
            </a:r>
            <a:r>
              <a:rPr b="1" lang="en-US" sz="6000" spc="-1" strike="noStrike" baseline="30000">
                <a:solidFill>
                  <a:srgbClr val="ff0066"/>
                </a:solidFill>
                <a:latin typeface="Times New Roman"/>
              </a:rPr>
              <a:t>. </a:t>
            </a: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g </a:t>
            </a:r>
            <a:r>
              <a:rPr b="1" lang="en-US" sz="6000" spc="-1" strike="noStrike" baseline="30000">
                <a:solidFill>
                  <a:srgbClr val="ff0066"/>
                </a:solidFill>
                <a:latin typeface="Times New Roman"/>
              </a:rPr>
              <a:t>.</a:t>
            </a: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 h</a:t>
            </a:r>
            <a:endParaRPr b="0" lang="en-US" sz="6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0" y="4114800"/>
            <a:ext cx="192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ΔPE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 due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to gravity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7086600" y="1600200"/>
            <a:ext cx="2057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Weight is the force due to gravity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w=m</a:t>
            </a:r>
            <a:r>
              <a:rPr b="1" lang="en-US" sz="28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9" name="Line 10"/>
          <p:cNvSpPr/>
          <p:nvPr/>
        </p:nvSpPr>
        <p:spPr>
          <a:xfrm flipH="1">
            <a:off x="5105160" y="3048120"/>
            <a:ext cx="2057400" cy="53316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7162920" y="51814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Distance is just the height off the ground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1" name="Line 12"/>
          <p:cNvSpPr/>
          <p:nvPr/>
        </p:nvSpPr>
        <p:spPr>
          <a:xfrm flipH="1" flipV="1">
            <a:off x="6781680" y="4114440"/>
            <a:ext cx="457200" cy="114300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1371600" y="3962520"/>
            <a:ext cx="609480" cy="38088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4800600" y="4114800"/>
            <a:ext cx="76320" cy="45720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4" name="Line 15"/>
          <p:cNvSpPr/>
          <p:nvPr/>
        </p:nvSpPr>
        <p:spPr>
          <a:xfrm>
            <a:off x="4800600" y="4038480"/>
            <a:ext cx="762120" cy="60984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40"/>
                </a:solidFill>
                <a:latin typeface="Times New Roman"/>
              </a:rPr>
              <a:t>Kinetic Energy (KE)</a:t>
            </a:r>
            <a:endParaRPr b="0" lang="en-US" sz="5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Times New Roman"/>
              </a:rPr>
              <a:t>Is the energy due to motion.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Times New Roman"/>
              </a:rPr>
              <a:t>A moving object has the ability to do work on another object.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Times New Roman"/>
              </a:rPr>
              <a:t>It is a scalar quantity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Work (a scalar)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In physics, work is done when a force is applied through a distance. </a:t>
            </a:r>
            <a:r>
              <a:rPr b="0" lang="en-US" sz="3600" spc="-1" strike="noStrike" u="sng">
                <a:solidFill>
                  <a:srgbClr val="666699"/>
                </a:solidFill>
                <a:uFillTx/>
                <a:latin typeface="Times New Roman"/>
              </a:rPr>
              <a:t>The force must be in the direction of movement!</a:t>
            </a:r>
            <a:endParaRPr b="0" lang="en-US" sz="36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W = F </a:t>
            </a:r>
            <a:r>
              <a:rPr b="1" lang="en-US" sz="3600" spc="-1" strike="noStrike" baseline="30000">
                <a:solidFill>
                  <a:srgbClr val="ff0066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 d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 =magnitude of force </a:t>
            </a:r>
            <a:r>
              <a:rPr b="1" lang="en-US" sz="3600" spc="-1" strike="noStrike" baseline="30000">
                <a:solidFill>
                  <a:srgbClr val="666699"/>
                </a:solidFill>
                <a:latin typeface="Times New Roman"/>
              </a:rPr>
              <a:t>. 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Distance moved.</a:t>
            </a:r>
            <a:endParaRPr b="0" lang="en-US" sz="36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Units of measure:</a:t>
            </a:r>
            <a:endParaRPr b="0" lang="en-US" sz="36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• 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m or </a:t>
            </a:r>
            <a:r>
              <a:rPr b="1" lang="en-US" sz="3600" spc="-1" strike="noStrike">
                <a:solidFill>
                  <a:srgbClr val="666699"/>
                </a:solidFill>
                <a:latin typeface="Times New Roman"/>
              </a:rPr>
              <a:t>Joule 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in the metric system.</a:t>
            </a:r>
            <a:endParaRPr b="0" lang="en-US" sz="36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Ft 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•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 Lb or calorie in the English system. </a:t>
            </a:r>
            <a:endParaRPr b="0" lang="en-US" sz="36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2"/>
          <p:cNvSpPr/>
          <p:nvPr/>
        </p:nvSpPr>
        <p:spPr>
          <a:xfrm>
            <a:off x="1828800" y="5181480"/>
            <a:ext cx="4191120" cy="0"/>
          </a:xfrm>
          <a:prstGeom prst="line">
            <a:avLst/>
          </a:prstGeom>
          <a:ln w="76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8" name="Line 3"/>
          <p:cNvSpPr/>
          <p:nvPr/>
        </p:nvSpPr>
        <p:spPr>
          <a:xfrm flipV="1">
            <a:off x="5943600" y="2666880"/>
            <a:ext cx="0" cy="2362320"/>
          </a:xfrm>
          <a:prstGeom prst="line">
            <a:avLst/>
          </a:prstGeom>
          <a:ln w="5724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048120" y="54864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3 J of work against friction to slide.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019920" y="34290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4J of work against gravity to lift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57200" y="2286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0"/>
                </a:solidFill>
                <a:latin typeface="Times New Roman"/>
              </a:rPr>
              <a:t>Don’t use trig or vectors to add energy. Adding energy is path independent.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262" name="Picture 8" descr="mass"/>
          <p:cNvPicPr/>
          <p:nvPr/>
        </p:nvPicPr>
        <p:blipFill>
          <a:blip r:embed="rId1"/>
          <a:stretch/>
        </p:blipFill>
        <p:spPr>
          <a:xfrm>
            <a:off x="1523880" y="4267080"/>
            <a:ext cx="59076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40"/>
                </a:solidFill>
                <a:latin typeface="Times New Roman"/>
              </a:rPr>
              <a:t>Kinetic Energy (KE)</a:t>
            </a:r>
            <a:endParaRPr b="0" lang="en-US" sz="5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W= F </a:t>
            </a:r>
            <a:r>
              <a:rPr b="1" lang="en-US" sz="40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KE=m</a:t>
            </a:r>
            <a:r>
              <a:rPr b="1" lang="en-US" sz="40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KE = m</a:t>
            </a:r>
            <a:r>
              <a:rPr b="1" lang="en-US" sz="40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v/t</a:t>
            </a:r>
            <a:r>
              <a:rPr b="1" lang="en-US" sz="40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v</a:t>
            </a:r>
            <a:r>
              <a:rPr b="1" lang="en-US" sz="40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KE = m</a:t>
            </a:r>
            <a:r>
              <a:rPr b="1" lang="en-US" sz="40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v/t</a:t>
            </a:r>
            <a:r>
              <a:rPr b="1" lang="en-US" sz="40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v</a:t>
            </a:r>
            <a:r>
              <a:rPr b="0" lang="en-US" sz="4000" spc="-1" strike="noStrike" baseline="-25000">
                <a:solidFill>
                  <a:srgbClr val="666699"/>
                </a:solidFill>
                <a:latin typeface="Times New Roman"/>
              </a:rPr>
              <a:t>/2</a:t>
            </a:r>
            <a:r>
              <a:rPr b="1" lang="en-US" sz="40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KE= ½ m</a:t>
            </a:r>
            <a:r>
              <a:rPr b="1" lang="en-US" sz="5400" spc="-1" strike="noStrike" baseline="30000">
                <a:solidFill>
                  <a:srgbClr val="ff0066"/>
                </a:solidFill>
                <a:latin typeface="Times New Roman"/>
              </a:rPr>
              <a:t>.</a:t>
            </a: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v</a:t>
            </a:r>
            <a:r>
              <a:rPr b="0" lang="en-US" sz="54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0" y="129528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Using W=F</a:t>
            </a:r>
            <a:r>
              <a:rPr b="1" lang="en-US" sz="32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d and Newton’s 2</a:t>
            </a:r>
            <a:r>
              <a:rPr b="0" lang="en-US" sz="3200" spc="-1" strike="noStrike" baseline="30000">
                <a:solidFill>
                  <a:srgbClr val="66669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 Law, F=m</a:t>
            </a:r>
            <a:r>
              <a:rPr b="1" lang="en-US" sz="3200" spc="-1" strike="noStrike" baseline="30000">
                <a:solidFill>
                  <a:srgbClr val="666699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228600" y="19810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he work done by a force to accelerate a mass is equivalent to the KE gain.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2819520" y="2819520"/>
            <a:ext cx="609480" cy="22860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4724280" y="2514600"/>
            <a:ext cx="304920" cy="45720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69" name="Line 12"/>
          <p:cNvSpPr/>
          <p:nvPr/>
        </p:nvSpPr>
        <p:spPr>
          <a:xfrm flipH="1">
            <a:off x="4647960" y="2438280"/>
            <a:ext cx="75960" cy="53352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3"/>
              <p:cNvSpPr txBox="1"/>
              <p:nvPr/>
            </p:nvSpPr>
            <p:spPr>
              <a:xfrm>
                <a:off x="4502160" y="3232080"/>
                <a:ext cx="139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Line 14"/>
          <p:cNvSpPr/>
          <p:nvPr/>
        </p:nvSpPr>
        <p:spPr>
          <a:xfrm>
            <a:off x="5105520" y="3276720"/>
            <a:ext cx="0" cy="30456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5562720" y="3276720"/>
            <a:ext cx="152280" cy="38088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6324480" y="31240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d=avg.velocity multiplied by time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4" name="Line 18"/>
          <p:cNvSpPr/>
          <p:nvPr/>
        </p:nvSpPr>
        <p:spPr>
          <a:xfrm flipH="1" flipV="1">
            <a:off x="5638320" y="3200400"/>
            <a:ext cx="762120" cy="38088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6172200" y="213372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a=v/t assuming v</a:t>
            </a:r>
            <a:r>
              <a:rPr b="0" lang="en-US" sz="2400" spc="-1" strike="noStrike" baseline="-25000">
                <a:solidFill>
                  <a:srgbClr val="6666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=0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 flipH="1">
            <a:off x="5181480" y="2438280"/>
            <a:ext cx="1067040" cy="53352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6400800" y="4724280"/>
            <a:ext cx="2743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Avg. velocity=v</a:t>
            </a:r>
            <a:r>
              <a:rPr b="0" lang="en-US" sz="2400" spc="-1" strike="noStrike" baseline="-25000">
                <a:solidFill>
                  <a:srgbClr val="666699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Assuming v</a:t>
            </a:r>
            <a:r>
              <a:rPr b="0" lang="en-US" sz="2400" spc="-1" strike="noStrike" baseline="-25000">
                <a:solidFill>
                  <a:srgbClr val="6666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=0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8" name="Line 22"/>
          <p:cNvSpPr/>
          <p:nvPr/>
        </p:nvSpPr>
        <p:spPr>
          <a:xfrm flipH="1" flipV="1">
            <a:off x="5790960" y="4800600"/>
            <a:ext cx="685800" cy="38088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9" name="Line 23"/>
          <p:cNvSpPr/>
          <p:nvPr/>
        </p:nvSpPr>
        <p:spPr>
          <a:xfrm>
            <a:off x="5638680" y="4038480"/>
            <a:ext cx="0" cy="228600"/>
          </a:xfrm>
          <a:prstGeom prst="line">
            <a:avLst/>
          </a:prstGeom>
          <a:ln w="93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E </a:t>
            </a:r>
            <a:r>
              <a:rPr b="0" lang="en-US" sz="4400" spc="-1" strike="noStrike" baseline="-25000">
                <a:solidFill>
                  <a:srgbClr val="000040"/>
                </a:solidFill>
                <a:latin typeface="Times New Roman"/>
              </a:rPr>
              <a:t>total</a:t>
            </a: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 = KE + PE + Q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Work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pic>
        <p:nvPicPr>
          <p:cNvPr id="282" name="Picture 4" descr="Work pic"/>
          <p:cNvPicPr/>
          <p:nvPr/>
        </p:nvPicPr>
        <p:blipFill>
          <a:blip r:embed="rId1"/>
          <a:stretch/>
        </p:blipFill>
        <p:spPr>
          <a:xfrm>
            <a:off x="1152360" y="2128680"/>
            <a:ext cx="6629400" cy="19162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9144000" cy="22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Is  work being done ?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Yes on the right .  But not by the 15N force used to hold it up in the left picture. 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84" name="TextBox 1"/>
          <p:cNvSpPr/>
          <p:nvPr/>
        </p:nvSpPr>
        <p:spPr>
          <a:xfrm>
            <a:off x="380880" y="9144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W = F•d only works if F and d are _________________________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e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e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58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If you pick up a 3N rock a distance of 2 meters, how much work have you done?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If you push a wall with a force of 100N how much work have you done?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Power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Power is the rate at which work is done.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Times New Roman"/>
              </a:rPr>
              <a:t>P = W/t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So the faster you do work, the more power is needed.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I unit of measure is the Watt</a:t>
            </a:r>
            <a:r>
              <a:rPr b="0" lang="en-US" sz="3600" spc="-1" strike="noStrike">
                <a:solidFill>
                  <a:srgbClr val="6666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131" name="Picture 4" descr="Watt"/>
          <p:cNvPicPr/>
          <p:nvPr/>
        </p:nvPicPr>
        <p:blipFill>
          <a:blip r:embed="rId1"/>
          <a:stretch/>
        </p:blipFill>
        <p:spPr>
          <a:xfrm>
            <a:off x="3048120" y="4495680"/>
            <a:ext cx="2441520" cy="2149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wattseng"/>
          <p:cNvPicPr/>
          <p:nvPr/>
        </p:nvPicPr>
        <p:blipFill>
          <a:blip r:embed="rId2"/>
          <a:stretch/>
        </p:blipFill>
        <p:spPr>
          <a:xfrm>
            <a:off x="5667480" y="3181320"/>
            <a:ext cx="3476520" cy="36766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304920" y="3962520"/>
            <a:ext cx="205740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homas Newcomen invented the first steam engine in 1712 to pump water out of coal and tin mines.</a:t>
            </a:r>
            <a:endParaRPr b="0" lang="en-US" sz="1400" spc="-1" strike="noStrike">
              <a:solidFill>
                <a:srgbClr val="666699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t underwent a number of improvements but it was James Watt in the mid eighteenth century who spectacularly improved its efficiency.</a:t>
            </a:r>
            <a:endParaRPr b="0" lang="en-US" sz="1400" spc="-1" strike="noStrike">
              <a:solidFill>
                <a:srgbClr val="666699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Power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Times New Roman"/>
              </a:rPr>
              <a:t>P = W/t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0"/>
                </a:solidFill>
                <a:latin typeface="Times New Roman"/>
              </a:rPr>
              <a:t>So, if you pick up that same 3N rock a distance of 2 meters, and do it in 6 seconds how much power is needed?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0"/>
                </a:solidFill>
                <a:latin typeface="Times New Roman"/>
              </a:rPr>
              <a:t>Calculate the Power</a:t>
            </a:r>
            <a:endParaRPr b="0" lang="en-US" sz="4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067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A set of pulleys is used to lift a piano weighing 1000N.  It is lifted 6 meters in 30 seconds.  How much work was put into it and how much power was used?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eathstardo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000040"/>
                </a:solidFill>
                <a:uFillTx/>
                <a:latin typeface="Times New Roman"/>
              </a:rPr>
              <a:t>Energy:</a:t>
            </a:r>
            <a:endParaRPr b="0" lang="en-US" sz="54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131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Energy is the ability to do work.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131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The SI unit of measurement for energy is also the Joule (J).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eathstardo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eathstardo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40"/>
                </a:solidFill>
                <a:latin typeface="Times New Roman"/>
              </a:rPr>
              <a:t>Can you list sources of energy that we can use to make machines do work for us?</a:t>
            </a:r>
            <a:r>
              <a:rPr b="0" lang="en-US" sz="4000" spc="-1" strike="noStrike">
                <a:solidFill>
                  <a:srgbClr val="00004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4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energy transformation chart"/>
          <p:cNvPicPr/>
          <p:nvPr/>
        </p:nvPicPr>
        <p:blipFill>
          <a:blip r:embed="rId1"/>
          <a:stretch/>
        </p:blipFill>
        <p:spPr>
          <a:xfrm>
            <a:off x="-228600" y="0"/>
            <a:ext cx="9548640" cy="69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18:39:26Z</dcterms:created>
  <dc:creator>James Keelty</dc:creator>
  <dc:description/>
  <dc:language>en-US</dc:language>
  <cp:lastModifiedBy>"%username%"</cp:lastModifiedBy>
  <cp:lastPrinted>2015-01-06T15:23:19Z</cp:lastPrinted>
  <dcterms:modified xsi:type="dcterms:W3CDTF">2016-01-04T17:20:13Z</dcterms:modified>
  <cp:revision>37</cp:revision>
  <dc:subject/>
  <dc:title>Homework Due Wednesday 1/3/2001</dc:title>
</cp:coreProperties>
</file>